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9A6C-96A8-456B-99D0-9E2A9DB38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37B8-D99B-4122-93A6-0D9F3134B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1B12-C35F-4B95-8144-43AC718E1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3A29-6677-4270-8A70-A10A09D32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0ED4-C32E-4E43-BBC7-6AF1FCC6C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1F41-BBFB-45CD-B3CE-30F9D77D2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4C01-C7F4-4158-8266-7E419DD2C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E537-B416-4C7F-B05C-8021169E4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5735-E869-43F5-9F36-6CB01E3FF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9033-1B97-4E65-A99F-7517C9A42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6D93-3D5B-4C24-9D68-9F7B273AE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ABFB-8D2B-4053-A7E2-58FEFB9D1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52695-C12E-4BC2-A1FC-AC802B830D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379520" y="228600"/>
            <a:ext cx="638496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081160" y="304920"/>
            <a:ext cx="498168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3T14:42:23Z</dcterms:created>
  <dc:creator>Patrick Mooney</dc:creator>
  <dc:description/>
  <dc:language>en-US</dc:language>
  <cp:lastModifiedBy>Patrick Mooney</cp:lastModifiedBy>
  <dcterms:modified xsi:type="dcterms:W3CDTF">2009-11-03T14:47:56Z</dcterms:modified>
  <cp:revision>1</cp:revision>
  <dc:subject/>
  <dc:title>Slide 1</dc:title>
</cp:coreProperties>
</file>